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266-5E25-46AC-A24A-F3D777A1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E88-3CEA-4A5A-B2FB-DB191BD9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8CF-7B49-4A47-9720-F8BC9B6A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866-E5B3-478B-9F17-4C4CE74C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13C-11C8-4DCF-9A37-BE99DCBF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6A9-8AE2-4CBC-93B6-0C70C4F6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2E5-A47C-4A8D-B5CC-14F70770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81E-CDE4-44CE-9963-F9E0BFE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9FE-A320-4A9A-AB4A-3A2D1DD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77B-AD71-4094-A038-8FDC2F02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8D3-A403-477D-BFE9-2DE2E4C8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899-D915-47AA-81E3-A5C8BA9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3A99-B9CB-4C9F-81D7-22A8EB04A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34:59Z</dcterms:modified>
  <cp:revision>29</cp:revision>
  <dc:subject/>
  <dc:title>SALARIUL</dc:title>
</cp:coreProperties>
</file>